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82D5-FAF6-43A8-8463-C424C0094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01F9-998F-4758-865B-1A651DB57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DB77-3CD9-471F-9081-B7DB0BF23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1438-26C1-4B09-AD3D-650C36BBD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1E75-ED76-4D96-95F2-599F556D1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3367-F708-4862-B1CD-272769989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3A28-4BE8-4D5C-BD4A-09D8E1082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59DB-6151-476A-A7D2-09725E5A1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0762-9FF3-4976-89FC-110B14078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294F-74C8-458F-8BA0-7244624A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79AE-B4A3-42C7-99E2-92AFF145E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E121-0425-45DF-9E86-4EDFBA464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0EC14-1BC0-4396-864D-461C1C4B357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6095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Polygon from a known s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56386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305160" y="2882880"/>
            <a:ext cx="0" cy="35053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28920" y="5448240"/>
            <a:ext cx="67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60</a:t>
            </a:r>
            <a:r>
              <a:rPr b="0" lang="en-US" sz="1000" spc="-1" strike="noStrike" baseline="30000">
                <a:solidFill>
                  <a:srgbClr val="3333cc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781440" y="5438880"/>
            <a:ext cx="67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45</a:t>
            </a:r>
            <a:r>
              <a:rPr b="0" lang="en-US" sz="1000" spc="-1" strike="noStrike" baseline="30000">
                <a:solidFill>
                  <a:srgbClr val="3333cc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178080" y="4133880"/>
            <a:ext cx="2764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68720" y="4753080"/>
            <a:ext cx="2761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62320" y="4514760"/>
            <a:ext cx="75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4 sid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71680" y="3889440"/>
            <a:ext cx="78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6 sid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438280" y="4915080"/>
            <a:ext cx="1435320" cy="14349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755800" y="4915080"/>
            <a:ext cx="1435320" cy="14349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576600" y="4924440"/>
            <a:ext cx="628560" cy="1425600"/>
          </a:xfrm>
          <a:custGeom>
            <a:avLst/>
            <a:gdLst/>
            <a:ahLst/>
            <a:rect l="l" t="t" r="r" b="b"/>
            <a:pathLst>
              <a:path w="396" h="898">
                <a:moveTo>
                  <a:pt x="3" y="898"/>
                </a:moveTo>
                <a:lnTo>
                  <a:pt x="159" y="843"/>
                </a:lnTo>
                <a:lnTo>
                  <a:pt x="270" y="756"/>
                </a:lnTo>
                <a:lnTo>
                  <a:pt x="360" y="618"/>
                </a:lnTo>
                <a:lnTo>
                  <a:pt x="396" y="453"/>
                </a:lnTo>
                <a:cubicBezTo>
                  <a:pt x="395" y="397"/>
                  <a:pt x="376" y="332"/>
                  <a:pt x="357" y="282"/>
                </a:cubicBezTo>
                <a:cubicBezTo>
                  <a:pt x="338" y="232"/>
                  <a:pt x="315" y="194"/>
                  <a:pt x="279" y="153"/>
                </a:cubicBezTo>
                <a:cubicBezTo>
                  <a:pt x="238" y="87"/>
                  <a:pt x="187" y="63"/>
                  <a:pt x="141" y="39"/>
                </a:cubicBezTo>
                <a:cubicBezTo>
                  <a:pt x="95" y="14"/>
                  <a:pt x="29" y="8"/>
                  <a:pt x="0" y="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424240" y="4919760"/>
            <a:ext cx="628560" cy="1425600"/>
          </a:xfrm>
          <a:custGeom>
            <a:avLst/>
            <a:gdLst/>
            <a:ahLst/>
            <a:rect l="l" t="t" r="r" b="b"/>
            <a:pathLst>
              <a:path w="396" h="898">
                <a:moveTo>
                  <a:pt x="3" y="898"/>
                </a:moveTo>
                <a:lnTo>
                  <a:pt x="159" y="843"/>
                </a:lnTo>
                <a:lnTo>
                  <a:pt x="270" y="756"/>
                </a:lnTo>
                <a:lnTo>
                  <a:pt x="360" y="618"/>
                </a:lnTo>
                <a:lnTo>
                  <a:pt x="396" y="453"/>
                </a:lnTo>
                <a:cubicBezTo>
                  <a:pt x="395" y="397"/>
                  <a:pt x="376" y="332"/>
                  <a:pt x="357" y="282"/>
                </a:cubicBezTo>
                <a:cubicBezTo>
                  <a:pt x="338" y="232"/>
                  <a:pt x="315" y="194"/>
                  <a:pt x="279" y="153"/>
                </a:cubicBezTo>
                <a:cubicBezTo>
                  <a:pt x="238" y="87"/>
                  <a:pt x="187" y="63"/>
                  <a:pt x="141" y="39"/>
                </a:cubicBezTo>
                <a:cubicBezTo>
                  <a:pt x="95" y="14"/>
                  <a:pt x="29" y="8"/>
                  <a:pt x="0" y="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2438280" y="4086360"/>
            <a:ext cx="895320" cy="15523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3200400" y="4647960"/>
            <a:ext cx="990720" cy="9903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81480" y="125424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tep 1.  Draw a line equal to the length of one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81480" y="217800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tep 2.  Bisect the line and draw a perpendi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224320" y="3073320"/>
            <a:ext cx="391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tep 3.  From one side of the line  draw a 60</a:t>
            </a:r>
            <a:r>
              <a:rPr b="0" lang="en-US" sz="2400" spc="-1" strike="noStrike" baseline="30000">
                <a:solidFill>
                  <a:srgbClr val="33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240160" y="4011480"/>
            <a:ext cx="390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tep 4.  From the other side of the line draw a 45</a:t>
            </a:r>
            <a:r>
              <a:rPr b="0" lang="en-US" sz="2400" spc="-1" strike="noStrike" baseline="30000">
                <a:solidFill>
                  <a:srgbClr val="3333cc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14840" y="5319720"/>
            <a:ext cx="452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The 45</a:t>
            </a:r>
            <a:r>
              <a:rPr b="0" lang="en-US" sz="1600" spc="-1" strike="noStrike" baseline="30000">
                <a:solidFill>
                  <a:srgbClr val="3333cc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 line will give you the centre for a circle big enough for a squa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14840" y="6014880"/>
            <a:ext cx="452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The 60</a:t>
            </a:r>
            <a:r>
              <a:rPr b="0" lang="en-US" sz="1600" spc="-1" strike="noStrike" baseline="30000">
                <a:solidFill>
                  <a:srgbClr val="3333cc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 line will give you the centre for a circle big enough for a hexagon (6 sides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87600" y="2400480"/>
            <a:ext cx="3479760" cy="3479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050920" y="3483000"/>
            <a:ext cx="2505240" cy="2504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20985000">
            <a:off x="2700360" y="4990680"/>
            <a:ext cx="1422360" cy="768240"/>
          </a:xfrm>
          <a:custGeom>
            <a:avLst/>
            <a:gdLst/>
            <a:ahLst/>
            <a:rect l="l" t="t" r="r" b="b"/>
            <a:pathLst>
              <a:path w="896" h="484">
                <a:moveTo>
                  <a:pt x="896" y="484"/>
                </a:moveTo>
                <a:lnTo>
                  <a:pt x="567" y="0"/>
                </a:lnTo>
                <a:lnTo>
                  <a:pt x="0" y="475"/>
                </a:lnTo>
                <a:lnTo>
                  <a:pt x="549" y="137"/>
                </a:lnTo>
                <a:lnTo>
                  <a:pt x="896" y="484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rot="21077400">
            <a:off x="2358720" y="4749480"/>
            <a:ext cx="1422360" cy="768600"/>
          </a:xfrm>
          <a:custGeom>
            <a:avLst/>
            <a:gdLst/>
            <a:ahLst/>
            <a:rect l="l" t="t" r="r" b="b"/>
            <a:pathLst>
              <a:path w="896" h="484">
                <a:moveTo>
                  <a:pt x="896" y="484"/>
                </a:moveTo>
                <a:lnTo>
                  <a:pt x="567" y="0"/>
                </a:lnTo>
                <a:lnTo>
                  <a:pt x="0" y="475"/>
                </a:lnTo>
                <a:lnTo>
                  <a:pt x="549" y="137"/>
                </a:lnTo>
                <a:lnTo>
                  <a:pt x="896" y="484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500"/>
                            </p:stCondLst>
                            <p:childTnLst>
                              <p:par>
                                <p:cTn id="8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8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0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3500"/>
                            </p:stCondLst>
                            <p:childTnLst>
                              <p:par>
                                <p:cTn id="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65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350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70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9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3000"/>
                            </p:stCondLst>
                            <p:childTnLst>
                              <p:par>
                                <p:cTn id="50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65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90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425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40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45500"/>
                            </p:stCondLst>
                            <p:childTnLst>
                              <p:par>
                                <p:cTn id="67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90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25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50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6500"/>
                            </p:stCondLst>
                            <p:childTnLst>
                              <p:par>
                                <p:cTn id="81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8600" y="304920"/>
            <a:ext cx="6095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Polygon from a known s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438280" y="56386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438280" y="4095720"/>
            <a:ext cx="890640" cy="1542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3242880" y="4691160"/>
            <a:ext cx="947880" cy="9475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305160" y="2882880"/>
            <a:ext cx="0" cy="2933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78080" y="4133880"/>
            <a:ext cx="2764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168720" y="4753080"/>
            <a:ext cx="2761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62320" y="4514760"/>
            <a:ext cx="75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4 sid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1680" y="3889440"/>
            <a:ext cx="78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6 sid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716200" y="4157640"/>
            <a:ext cx="588960" cy="593640"/>
          </a:xfrm>
          <a:custGeom>
            <a:avLst/>
            <a:gdLst/>
            <a:ahLst/>
            <a:rect l="l" t="t" r="r" b="b"/>
            <a:pathLst>
              <a:path w="408" h="411">
                <a:moveTo>
                  <a:pt x="0" y="411"/>
                </a:moveTo>
                <a:cubicBezTo>
                  <a:pt x="4" y="388"/>
                  <a:pt x="4" y="320"/>
                  <a:pt x="24" y="271"/>
                </a:cubicBezTo>
                <a:cubicBezTo>
                  <a:pt x="44" y="222"/>
                  <a:pt x="74" y="171"/>
                  <a:pt x="122" y="117"/>
                </a:cubicBezTo>
                <a:cubicBezTo>
                  <a:pt x="170" y="63"/>
                  <a:pt x="250" y="38"/>
                  <a:pt x="298" y="19"/>
                </a:cubicBezTo>
                <a:cubicBezTo>
                  <a:pt x="346" y="0"/>
                  <a:pt x="385" y="6"/>
                  <a:pt x="408" y="3"/>
                </a:cubicBezTo>
              </a:path>
            </a:pathLst>
          </a:custGeom>
          <a:noFill/>
          <a:ln w="64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308400" y="4157640"/>
            <a:ext cx="604800" cy="609480"/>
          </a:xfrm>
          <a:custGeom>
            <a:avLst/>
            <a:gdLst/>
            <a:ahLst/>
            <a:rect l="l" t="t" r="r" b="b"/>
            <a:pathLst>
              <a:path w="408" h="411">
                <a:moveTo>
                  <a:pt x="0" y="411"/>
                </a:moveTo>
                <a:cubicBezTo>
                  <a:pt x="4" y="388"/>
                  <a:pt x="4" y="320"/>
                  <a:pt x="24" y="271"/>
                </a:cubicBezTo>
                <a:cubicBezTo>
                  <a:pt x="44" y="222"/>
                  <a:pt x="74" y="171"/>
                  <a:pt x="122" y="117"/>
                </a:cubicBezTo>
                <a:cubicBezTo>
                  <a:pt x="170" y="63"/>
                  <a:pt x="250" y="38"/>
                  <a:pt x="298" y="19"/>
                </a:cubicBezTo>
                <a:cubicBezTo>
                  <a:pt x="346" y="0"/>
                  <a:pt x="385" y="6"/>
                  <a:pt x="408" y="3"/>
                </a:cubicBezTo>
              </a:path>
            </a:pathLst>
          </a:custGeom>
          <a:noFill/>
          <a:ln w="64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730600" y="4136400"/>
            <a:ext cx="574560" cy="579240"/>
          </a:xfrm>
          <a:custGeom>
            <a:avLst/>
            <a:gdLst/>
            <a:ahLst/>
            <a:rect l="l" t="t" r="r" b="b"/>
            <a:pathLst>
              <a:path w="408" h="411">
                <a:moveTo>
                  <a:pt x="0" y="411"/>
                </a:moveTo>
                <a:cubicBezTo>
                  <a:pt x="4" y="388"/>
                  <a:pt x="4" y="320"/>
                  <a:pt x="24" y="271"/>
                </a:cubicBezTo>
                <a:cubicBezTo>
                  <a:pt x="44" y="222"/>
                  <a:pt x="74" y="171"/>
                  <a:pt x="122" y="117"/>
                </a:cubicBezTo>
                <a:cubicBezTo>
                  <a:pt x="170" y="63"/>
                  <a:pt x="250" y="38"/>
                  <a:pt x="298" y="19"/>
                </a:cubicBezTo>
                <a:cubicBezTo>
                  <a:pt x="346" y="0"/>
                  <a:pt x="385" y="6"/>
                  <a:pt x="408" y="3"/>
                </a:cubicBezTo>
              </a:path>
            </a:pathLst>
          </a:custGeom>
          <a:noFill/>
          <a:ln w="64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3305160" y="4117320"/>
            <a:ext cx="588960" cy="593640"/>
          </a:xfrm>
          <a:custGeom>
            <a:avLst/>
            <a:gdLst/>
            <a:ahLst/>
            <a:rect l="l" t="t" r="r" b="b"/>
            <a:pathLst>
              <a:path w="408" h="411">
                <a:moveTo>
                  <a:pt x="0" y="411"/>
                </a:moveTo>
                <a:cubicBezTo>
                  <a:pt x="4" y="388"/>
                  <a:pt x="4" y="320"/>
                  <a:pt x="24" y="271"/>
                </a:cubicBezTo>
                <a:cubicBezTo>
                  <a:pt x="44" y="222"/>
                  <a:pt x="74" y="171"/>
                  <a:pt x="122" y="117"/>
                </a:cubicBezTo>
                <a:cubicBezTo>
                  <a:pt x="170" y="63"/>
                  <a:pt x="250" y="38"/>
                  <a:pt x="298" y="19"/>
                </a:cubicBezTo>
                <a:cubicBezTo>
                  <a:pt x="346" y="0"/>
                  <a:pt x="385" y="6"/>
                  <a:pt x="408" y="3"/>
                </a:cubicBezTo>
              </a:path>
            </a:pathLst>
          </a:custGeom>
          <a:noFill/>
          <a:ln w="64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610000" y="4435560"/>
            <a:ext cx="14414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78160" y="4197240"/>
            <a:ext cx="67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5 sid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645080" y="1247760"/>
            <a:ext cx="449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If  you bisect the distance between 4 sides and 6 sides you find the centre of a circle for a pentagon (5 sided polyg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87920" y="2365200"/>
            <a:ext cx="4456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tep 5. Use a compass to bisect the distance. Open the compass to more than the distance and mark an arc from point 4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687920" y="4146480"/>
            <a:ext cx="445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tep 6. Mark an arc from point 6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687920" y="5284800"/>
            <a:ext cx="4456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tep 7. Bisect the distance and mark the centre of the circle for the pentag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730600" y="3251160"/>
            <a:ext cx="581040" cy="898560"/>
          </a:xfrm>
          <a:custGeom>
            <a:avLst/>
            <a:gdLst/>
            <a:ahLst/>
            <a:rect l="l" t="t" r="r" b="b"/>
            <a:pathLst>
              <a:path w="366" h="566">
                <a:moveTo>
                  <a:pt x="366" y="552"/>
                </a:moveTo>
                <a:lnTo>
                  <a:pt x="63" y="0"/>
                </a:lnTo>
                <a:lnTo>
                  <a:pt x="0" y="566"/>
                </a:lnTo>
                <a:lnTo>
                  <a:pt x="118" y="274"/>
                </a:lnTo>
                <a:lnTo>
                  <a:pt x="366" y="552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717640" y="4734000"/>
            <a:ext cx="587520" cy="904680"/>
          </a:xfrm>
          <a:custGeom>
            <a:avLst/>
            <a:gdLst/>
            <a:ahLst/>
            <a:rect l="l" t="t" r="r" b="b"/>
            <a:pathLst>
              <a:path w="370" h="570">
                <a:moveTo>
                  <a:pt x="370" y="14"/>
                </a:moveTo>
                <a:lnTo>
                  <a:pt x="81" y="570"/>
                </a:lnTo>
                <a:lnTo>
                  <a:pt x="0" y="0"/>
                </a:lnTo>
                <a:lnTo>
                  <a:pt x="126" y="319"/>
                </a:lnTo>
                <a:lnTo>
                  <a:pt x="370" y="14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5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8000"/>
                            </p:stCondLst>
                            <p:childTnLst>
                              <p:par>
                                <p:cTn id="94" nodeType="afterEffect" fill="hold" presetClass="entr" presetID="1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3000"/>
                            </p:stCondLst>
                            <p:childTnLst>
                              <p:par>
                                <p:cTn id="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90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3500"/>
                            </p:stCondLst>
                            <p:childTnLst>
                              <p:par>
                                <p:cTn id="108" nodeType="afterEffect" fill="hold" presetClass="entr" presetID="1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6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95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2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7000"/>
                            </p:stCondLst>
                            <p:childTnLst>
                              <p:par>
                                <p:cTn id="122" nodeType="afterEffect" fill="hold" presetClass="entr" presetID="2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05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943280" y="2959200"/>
            <a:ext cx="2781000" cy="2679480"/>
          </a:xfrm>
          <a:custGeom>
            <a:avLst/>
            <a:gdLst/>
            <a:ahLst/>
            <a:rect l="l" t="t" r="r" b="b"/>
            <a:pathLst>
              <a:path w="1752" h="1688">
                <a:moveTo>
                  <a:pt x="328" y="1680"/>
                </a:moveTo>
                <a:lnTo>
                  <a:pt x="1408" y="1688"/>
                </a:lnTo>
                <a:lnTo>
                  <a:pt x="1752" y="632"/>
                </a:lnTo>
                <a:lnTo>
                  <a:pt x="856" y="0"/>
                </a:lnTo>
                <a:lnTo>
                  <a:pt x="0" y="616"/>
                </a:lnTo>
                <a:lnTo>
                  <a:pt x="328" y="168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50000">
                <a:srgbClr val="fefefe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438280" y="56386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3200400" y="4647960"/>
            <a:ext cx="990720" cy="9903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305160" y="2882880"/>
            <a:ext cx="0" cy="2933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14720" y="4133880"/>
            <a:ext cx="3650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67200" y="4753080"/>
            <a:ext cx="5299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62320" y="4514760"/>
            <a:ext cx="75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4 sid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271680" y="3889440"/>
            <a:ext cx="78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6 sid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56120" y="4444920"/>
            <a:ext cx="4251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78160" y="4197240"/>
            <a:ext cx="67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5 sid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28800" y="2946240"/>
            <a:ext cx="2984400" cy="2984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304920"/>
            <a:ext cx="6095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Polygon from a known s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2450880" y="4444920"/>
            <a:ext cx="850680" cy="1193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424240" y="5646600"/>
            <a:ext cx="1784160" cy="739800"/>
          </a:xfrm>
          <a:custGeom>
            <a:avLst/>
            <a:gdLst/>
            <a:ahLst/>
            <a:rect l="l" t="t" r="r" b="b"/>
            <a:pathLst>
              <a:path w="1124" h="466">
                <a:moveTo>
                  <a:pt x="0" y="0"/>
                </a:moveTo>
                <a:lnTo>
                  <a:pt x="558" y="466"/>
                </a:lnTo>
                <a:lnTo>
                  <a:pt x="1124" y="0"/>
                </a:lnTo>
                <a:lnTo>
                  <a:pt x="558" y="356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7211000">
            <a:off x="3933720" y="4512960"/>
            <a:ext cx="1784520" cy="739800"/>
          </a:xfrm>
          <a:custGeom>
            <a:avLst/>
            <a:gdLst/>
            <a:ahLst/>
            <a:rect l="l" t="t" r="r" b="b"/>
            <a:pathLst>
              <a:path w="1124" h="466">
                <a:moveTo>
                  <a:pt x="0" y="0"/>
                </a:moveTo>
                <a:lnTo>
                  <a:pt x="558" y="466"/>
                </a:lnTo>
                <a:lnTo>
                  <a:pt x="1124" y="0"/>
                </a:lnTo>
                <a:lnTo>
                  <a:pt x="558" y="356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rot="4389000">
            <a:off x="929520" y="4519800"/>
            <a:ext cx="1784160" cy="739440"/>
          </a:xfrm>
          <a:custGeom>
            <a:avLst/>
            <a:gdLst/>
            <a:ahLst/>
            <a:rect l="l" t="t" r="r" b="b"/>
            <a:pathLst>
              <a:path w="1124" h="466">
                <a:moveTo>
                  <a:pt x="0" y="0"/>
                </a:moveTo>
                <a:lnTo>
                  <a:pt x="558" y="466"/>
                </a:lnTo>
                <a:lnTo>
                  <a:pt x="1124" y="0"/>
                </a:lnTo>
                <a:lnTo>
                  <a:pt x="558" y="356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13040" y="2822400"/>
            <a:ext cx="1388880" cy="1136880"/>
          </a:xfrm>
          <a:custGeom>
            <a:avLst/>
            <a:gdLst/>
            <a:ahLst/>
            <a:rect l="l" t="t" r="r" b="b"/>
            <a:pathLst>
              <a:path w="875" h="716">
                <a:moveTo>
                  <a:pt x="875" y="70"/>
                </a:moveTo>
                <a:lnTo>
                  <a:pt x="141" y="0"/>
                </a:lnTo>
                <a:lnTo>
                  <a:pt x="0" y="716"/>
                </a:lnTo>
                <a:lnTo>
                  <a:pt x="210" y="90"/>
                </a:lnTo>
                <a:lnTo>
                  <a:pt x="875" y="7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14880" y="2913120"/>
            <a:ext cx="1390320" cy="990720"/>
          </a:xfrm>
          <a:custGeom>
            <a:avLst/>
            <a:gdLst/>
            <a:ahLst/>
            <a:rect l="l" t="t" r="r" b="b"/>
            <a:pathLst>
              <a:path w="876" h="624">
                <a:moveTo>
                  <a:pt x="0" y="13"/>
                </a:moveTo>
                <a:lnTo>
                  <a:pt x="639" y="0"/>
                </a:lnTo>
                <a:lnTo>
                  <a:pt x="876" y="624"/>
                </a:lnTo>
                <a:lnTo>
                  <a:pt x="589" y="65"/>
                </a:lnTo>
                <a:lnTo>
                  <a:pt x="0" y="13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4203720" y="3936600"/>
            <a:ext cx="520560" cy="1701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3301560" y="2946240"/>
            <a:ext cx="1422360" cy="99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930320" y="2946240"/>
            <a:ext cx="1371600" cy="1003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30320" y="3949560"/>
            <a:ext cx="520920" cy="1689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451240" y="5638680"/>
            <a:ext cx="1752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2366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Having set out the centre of the circle, use the following steps to set out the pentag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26200" y="1755720"/>
            <a:ext cx="381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tep 1. Set the compass to the circle radius and draw the circ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26200" y="2865600"/>
            <a:ext cx="381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tep 2. Set the compass to the length of the side and step it off around the circ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26200" y="4351320"/>
            <a:ext cx="381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tep 3. Joins up the marks to form the pentag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4659480" y="3860640"/>
            <a:ext cx="203040" cy="11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727280" y="3889440"/>
            <a:ext cx="434880" cy="101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500"/>
                            </p:stCondLst>
                            <p:childTnLst>
                              <p:par>
                                <p:cTn id="135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600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6" nodeType="afterEffect" fill="hold" presetClass="entr" presetID="1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8000"/>
                            </p:stCondLst>
                            <p:childTnLst>
                              <p:par>
                                <p:cTn id="149" nodeType="afterEffect" fill="hold" presetClass="entr" presetID="1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2000"/>
                            </p:stCondLst>
                            <p:childTnLst>
                              <p:par>
                                <p:cTn id="15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3500"/>
                            </p:stCondLst>
                            <p:childTnLst>
                              <p:par>
                                <p:cTn id="156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5500"/>
                            </p:stCondLst>
                            <p:childTnLst>
                              <p:par>
                                <p:cTn id="159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75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9000"/>
                            </p:stCondLst>
                            <p:childTnLst>
                              <p:par>
                                <p:cTn id="166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1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4500"/>
                            </p:stCondLst>
                            <p:childTnLst>
                              <p:par>
                                <p:cTn id="172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8000"/>
                            </p:stCondLst>
                            <p:childTnLst>
                              <p:par>
                                <p:cTn id="176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9500"/>
                            </p:stCondLst>
                            <p:childTnLst>
                              <p:par>
                                <p:cTn id="18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1000"/>
                            </p:stCondLst>
                            <p:childTnLst>
                              <p:par>
                                <p:cTn id="18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4250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440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582560" y="2641680"/>
            <a:ext cx="3497400" cy="3004920"/>
          </a:xfrm>
          <a:custGeom>
            <a:avLst/>
            <a:gdLst/>
            <a:ahLst/>
            <a:rect l="l" t="t" r="r" b="b"/>
            <a:pathLst>
              <a:path w="2203" h="1893">
                <a:moveTo>
                  <a:pt x="539" y="0"/>
                </a:moveTo>
                <a:lnTo>
                  <a:pt x="0" y="942"/>
                </a:lnTo>
                <a:lnTo>
                  <a:pt x="539" y="1893"/>
                </a:lnTo>
                <a:lnTo>
                  <a:pt x="1645" y="1893"/>
                </a:lnTo>
                <a:lnTo>
                  <a:pt x="2203" y="942"/>
                </a:lnTo>
                <a:lnTo>
                  <a:pt x="1659" y="0"/>
                </a:lnTo>
                <a:lnTo>
                  <a:pt x="539" y="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50000">
                <a:srgbClr val="fef4f4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304920"/>
            <a:ext cx="6095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Polygon from a known s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38280" y="56386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438280" y="4135320"/>
            <a:ext cx="866880" cy="1503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3200400" y="4647960"/>
            <a:ext cx="990720" cy="9903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305160" y="2882880"/>
            <a:ext cx="0" cy="2933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38400" y="4133880"/>
            <a:ext cx="5176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41640" y="4753080"/>
            <a:ext cx="6066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62320" y="4514760"/>
            <a:ext cx="75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4 sid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71680" y="3889440"/>
            <a:ext cx="78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6 sid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03480" y="4444920"/>
            <a:ext cx="6285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78160" y="4197240"/>
            <a:ext cx="67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5 sid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87600" y="2400480"/>
            <a:ext cx="3479760" cy="3479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424240" y="5646600"/>
            <a:ext cx="1784160" cy="739800"/>
          </a:xfrm>
          <a:custGeom>
            <a:avLst/>
            <a:gdLst/>
            <a:ahLst/>
            <a:rect l="l" t="t" r="r" b="b"/>
            <a:pathLst>
              <a:path w="1124" h="466">
                <a:moveTo>
                  <a:pt x="0" y="0"/>
                </a:moveTo>
                <a:lnTo>
                  <a:pt x="558" y="466"/>
                </a:lnTo>
                <a:lnTo>
                  <a:pt x="1124" y="0"/>
                </a:lnTo>
                <a:lnTo>
                  <a:pt x="558" y="356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7873400">
            <a:off x="4076640" y="4655880"/>
            <a:ext cx="1784160" cy="739800"/>
          </a:xfrm>
          <a:custGeom>
            <a:avLst/>
            <a:gdLst/>
            <a:ahLst/>
            <a:rect l="l" t="t" r="r" b="b"/>
            <a:pathLst>
              <a:path w="1124" h="466">
                <a:moveTo>
                  <a:pt x="0" y="0"/>
                </a:moveTo>
                <a:lnTo>
                  <a:pt x="558" y="466"/>
                </a:lnTo>
                <a:lnTo>
                  <a:pt x="1124" y="0"/>
                </a:lnTo>
                <a:lnTo>
                  <a:pt x="558" y="356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rot="3633000">
            <a:off x="799920" y="4698720"/>
            <a:ext cx="1784160" cy="739800"/>
          </a:xfrm>
          <a:custGeom>
            <a:avLst/>
            <a:gdLst/>
            <a:ahLst/>
            <a:rect l="l" t="t" r="r" b="b"/>
            <a:pathLst>
              <a:path w="1124" h="466">
                <a:moveTo>
                  <a:pt x="0" y="0"/>
                </a:moveTo>
                <a:lnTo>
                  <a:pt x="558" y="466"/>
                </a:lnTo>
                <a:lnTo>
                  <a:pt x="1124" y="0"/>
                </a:lnTo>
                <a:lnTo>
                  <a:pt x="558" y="356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 flipV="1" rot="18083400">
            <a:off x="837720" y="2802960"/>
            <a:ext cx="1784160" cy="740520"/>
          </a:xfrm>
          <a:custGeom>
            <a:avLst/>
            <a:gdLst/>
            <a:ahLst/>
            <a:rect l="l" t="t" r="r" b="b"/>
            <a:pathLst>
              <a:path w="1124" h="466">
                <a:moveTo>
                  <a:pt x="0" y="0"/>
                </a:moveTo>
                <a:lnTo>
                  <a:pt x="558" y="466"/>
                </a:lnTo>
                <a:lnTo>
                  <a:pt x="1124" y="0"/>
                </a:lnTo>
                <a:lnTo>
                  <a:pt x="558" y="356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 rot="3516600">
            <a:off x="4024080" y="2810160"/>
            <a:ext cx="1784160" cy="740160"/>
          </a:xfrm>
          <a:custGeom>
            <a:avLst/>
            <a:gdLst/>
            <a:ahLst/>
            <a:rect l="l" t="t" r="r" b="b"/>
            <a:pathLst>
              <a:path w="1124" h="466">
                <a:moveTo>
                  <a:pt x="0" y="0"/>
                </a:moveTo>
                <a:lnTo>
                  <a:pt x="558" y="466"/>
                </a:lnTo>
                <a:lnTo>
                  <a:pt x="1124" y="0"/>
                </a:lnTo>
                <a:lnTo>
                  <a:pt x="558" y="356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2432160" y="1878840"/>
            <a:ext cx="1784160" cy="739800"/>
          </a:xfrm>
          <a:custGeom>
            <a:avLst/>
            <a:gdLst/>
            <a:ahLst/>
            <a:rect l="l" t="t" r="r" b="b"/>
            <a:pathLst>
              <a:path w="1124" h="466">
                <a:moveTo>
                  <a:pt x="0" y="0"/>
                </a:moveTo>
                <a:lnTo>
                  <a:pt x="558" y="466"/>
                </a:lnTo>
                <a:lnTo>
                  <a:pt x="1124" y="0"/>
                </a:lnTo>
                <a:lnTo>
                  <a:pt x="558" y="356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390760" y="2552760"/>
            <a:ext cx="114480" cy="17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52600" y="2533680"/>
            <a:ext cx="9036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962600" y="4133880"/>
            <a:ext cx="32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1456920" y="4133880"/>
            <a:ext cx="266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4200480" y="4133880"/>
            <a:ext cx="855720" cy="1481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210200" y="2657520"/>
            <a:ext cx="855360" cy="1481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1576080" y="2652840"/>
            <a:ext cx="855720" cy="1481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62040" y="4138560"/>
            <a:ext cx="855720" cy="1481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438280" y="5646600"/>
            <a:ext cx="17701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433600" y="2641680"/>
            <a:ext cx="17701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486400" y="1292400"/>
            <a:ext cx="36576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74600" y="1190520"/>
            <a:ext cx="89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The same principles apply to the hexag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26200" y="1755720"/>
            <a:ext cx="381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tep 1. Set the compass to the circle radius and draw the circ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26200" y="2865600"/>
            <a:ext cx="381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tep 2. Set the compass to the length of the side and step it off around the circ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26200" y="4351320"/>
            <a:ext cx="381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tep 3. Joins up the marks to form the hexag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350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7000"/>
                            </p:stCondLst>
                            <p:childTnLst>
                              <p:par>
                                <p:cTn id="2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75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5500"/>
                            </p:stCondLst>
                            <p:childTnLst>
                              <p:par>
                                <p:cTn id="216" nodeType="afterEffect" fill="hold" presetClass="entr" presetID="1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8500"/>
                            </p:stCondLst>
                            <p:childTnLst>
                              <p:par>
                                <p:cTn id="219" nodeType="afterEffect" fill="hold" presetClass="entr" presetID="1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1500"/>
                            </p:stCondLst>
                            <p:childTnLst>
                              <p:par>
                                <p:cTn id="22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2000"/>
                            </p:stCondLst>
                            <p:childTnLst>
                              <p:par>
                                <p:cTn id="226" nodeType="afterEffect" fill="hold" presetClass="entr" presetID="1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5000"/>
                            </p:stCondLst>
                            <p:childTnLst>
                              <p:par>
                                <p:cTn id="22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6500"/>
                            </p:stCondLst>
                            <p:childTnLst>
                              <p:par>
                                <p:cTn id="233" nodeType="afterEffect" fill="hold" presetClass="entr" presetID="1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950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31000"/>
                            </p:stCondLst>
                            <p:childTnLst>
                              <p:par>
                                <p:cTn id="240" nodeType="afterEffect" fill="hold" presetClass="entr" presetID="1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340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35500"/>
                            </p:stCondLst>
                            <p:childTnLst>
                              <p:par>
                                <p:cTn id="247" nodeType="afterEffect" fill="hold" presetClass="entr" presetID="1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385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42000"/>
                            </p:stCondLst>
                            <p:childTnLst>
                              <p:par>
                                <p:cTn id="253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45500"/>
                            </p:stCondLst>
                            <p:childTnLst>
                              <p:par>
                                <p:cTn id="257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47000"/>
                            </p:stCondLst>
                            <p:childTnLst>
                              <p:par>
                                <p:cTn id="261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8500"/>
                            </p:stCondLst>
                            <p:childTnLst>
                              <p:par>
                                <p:cTn id="26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0"/>
                            </p:stCondLst>
                            <p:childTnLst>
                              <p:par>
                                <p:cTn id="26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1500"/>
                            </p:stCondLst>
                            <p:childTnLst>
                              <p:par>
                                <p:cTn id="27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3000"/>
                            </p:stCondLst>
                            <p:childTnLst>
                              <p:par>
                                <p:cTn id="277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438280" y="56386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2438280" y="4066920"/>
            <a:ext cx="906480" cy="15714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3200400" y="4647960"/>
            <a:ext cx="990720" cy="9903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05160" y="2882880"/>
            <a:ext cx="0" cy="2933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8120" y="4133880"/>
            <a:ext cx="4600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130560" y="4753080"/>
            <a:ext cx="4129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262320" y="4514760"/>
            <a:ext cx="75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4 sid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71680" y="3889440"/>
            <a:ext cx="78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6 sid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56120" y="4444920"/>
            <a:ext cx="3520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278160" y="4197240"/>
            <a:ext cx="67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5 sid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04920"/>
            <a:ext cx="6095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Polygon from a known s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19400" y="4133880"/>
            <a:ext cx="1085760" cy="314280"/>
          </a:xfrm>
          <a:custGeom>
            <a:avLst/>
            <a:gdLst/>
            <a:ahLst/>
            <a:rect l="l" t="t" r="r" b="b"/>
            <a:pathLst>
              <a:path w="684" h="198">
                <a:moveTo>
                  <a:pt x="684" y="0"/>
                </a:moveTo>
                <a:lnTo>
                  <a:pt x="0" y="114"/>
                </a:lnTo>
                <a:lnTo>
                  <a:pt x="684" y="198"/>
                </a:lnTo>
                <a:lnTo>
                  <a:pt x="204" y="102"/>
                </a:lnTo>
                <a:lnTo>
                  <a:pt x="684" y="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19400" y="3819600"/>
            <a:ext cx="1085760" cy="314280"/>
          </a:xfrm>
          <a:custGeom>
            <a:avLst/>
            <a:gdLst/>
            <a:ahLst/>
            <a:rect l="l" t="t" r="r" b="b"/>
            <a:pathLst>
              <a:path w="684" h="198">
                <a:moveTo>
                  <a:pt x="684" y="0"/>
                </a:moveTo>
                <a:lnTo>
                  <a:pt x="0" y="114"/>
                </a:lnTo>
                <a:lnTo>
                  <a:pt x="684" y="198"/>
                </a:lnTo>
                <a:lnTo>
                  <a:pt x="204" y="102"/>
                </a:lnTo>
                <a:lnTo>
                  <a:pt x="684" y="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19400" y="3495600"/>
            <a:ext cx="1085760" cy="314280"/>
          </a:xfrm>
          <a:custGeom>
            <a:avLst/>
            <a:gdLst/>
            <a:ahLst/>
            <a:rect l="l" t="t" r="r" b="b"/>
            <a:pathLst>
              <a:path w="684" h="198">
                <a:moveTo>
                  <a:pt x="684" y="0"/>
                </a:moveTo>
                <a:lnTo>
                  <a:pt x="0" y="114"/>
                </a:lnTo>
                <a:lnTo>
                  <a:pt x="684" y="198"/>
                </a:lnTo>
                <a:lnTo>
                  <a:pt x="204" y="102"/>
                </a:lnTo>
                <a:lnTo>
                  <a:pt x="684" y="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19400" y="3181320"/>
            <a:ext cx="1085760" cy="314280"/>
          </a:xfrm>
          <a:custGeom>
            <a:avLst/>
            <a:gdLst/>
            <a:ahLst/>
            <a:rect l="l" t="t" r="r" b="b"/>
            <a:pathLst>
              <a:path w="684" h="198">
                <a:moveTo>
                  <a:pt x="684" y="0"/>
                </a:moveTo>
                <a:lnTo>
                  <a:pt x="0" y="114"/>
                </a:lnTo>
                <a:lnTo>
                  <a:pt x="684" y="198"/>
                </a:lnTo>
                <a:lnTo>
                  <a:pt x="204" y="102"/>
                </a:lnTo>
                <a:lnTo>
                  <a:pt x="684" y="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152880" y="3809880"/>
            <a:ext cx="37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105000" y="3495600"/>
            <a:ext cx="37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43160" y="3171960"/>
            <a:ext cx="37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281400" y="3603600"/>
            <a:ext cx="78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7 sid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300480" y="3270240"/>
            <a:ext cx="78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8 sid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300480" y="2965320"/>
            <a:ext cx="78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9 sid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06440" y="1058760"/>
            <a:ext cx="83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o set the circle centre for other polygon is easy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72000" y="195912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tep 1. Set the compass to the distance between 5 &amp; 6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472000" y="298296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tep 2. Mark of the distance from 6 along the perpendicul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1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850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293" nodeType="afterEffect" fill="hold" presetClass="entr" presetID="1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8000"/>
                            </p:stCondLst>
                            <p:childTnLst>
                              <p:par>
                                <p:cTn id="29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0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2000"/>
                            </p:stCondLst>
                            <p:childTnLst>
                              <p:par>
                                <p:cTn id="303" nodeType="afterEffect" fill="hold" presetClass="entr" presetID="1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6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8500"/>
                            </p:stCondLst>
                            <p:childTnLst>
                              <p:par>
                                <p:cTn id="31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31000"/>
                            </p:stCondLst>
                            <p:childTnLst>
                              <p:par>
                                <p:cTn id="313" nodeType="afterEffect" fill="hold" presetClass="entr" presetID="1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35000"/>
                            </p:stCondLst>
                            <p:childTnLst>
                              <p:par>
                                <p:cTn id="31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365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20840" y="2093760"/>
            <a:ext cx="3975120" cy="3886200"/>
          </a:xfrm>
          <a:custGeom>
            <a:avLst/>
            <a:gdLst/>
            <a:ahLst/>
            <a:rect l="l" t="t" r="r" b="b"/>
            <a:pathLst>
              <a:path w="2504" h="2448">
                <a:moveTo>
                  <a:pt x="2504" y="1544"/>
                </a:moveTo>
                <a:lnTo>
                  <a:pt x="2264" y="496"/>
                </a:lnTo>
                <a:lnTo>
                  <a:pt x="1264" y="0"/>
                </a:lnTo>
                <a:lnTo>
                  <a:pt x="248" y="480"/>
                </a:lnTo>
                <a:lnTo>
                  <a:pt x="0" y="1560"/>
                </a:lnTo>
                <a:lnTo>
                  <a:pt x="712" y="2440"/>
                </a:lnTo>
                <a:lnTo>
                  <a:pt x="1824" y="2448"/>
                </a:lnTo>
                <a:lnTo>
                  <a:pt x="2504" y="1544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50000">
                <a:srgbClr val="fefefe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438280" y="596736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05160" y="3211560"/>
            <a:ext cx="0" cy="2933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48120" y="4462560"/>
            <a:ext cx="4600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30560" y="5081760"/>
            <a:ext cx="4129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62320" y="4843440"/>
            <a:ext cx="75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4 sid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271680" y="4218120"/>
            <a:ext cx="78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6 sid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56120" y="4773600"/>
            <a:ext cx="3520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78160" y="4525920"/>
            <a:ext cx="67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5 sid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" y="304920"/>
            <a:ext cx="6095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Polygon from a known s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29040" y="41385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05000" y="3824280"/>
            <a:ext cx="37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143160" y="3500280"/>
            <a:ext cx="37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81400" y="3932280"/>
            <a:ext cx="78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7 sid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300480" y="3598920"/>
            <a:ext cx="78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8 sid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00480" y="3294000"/>
            <a:ext cx="78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9 sid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2437920" y="4138560"/>
            <a:ext cx="863640" cy="1828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270080" y="2081160"/>
            <a:ext cx="4089240" cy="4089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428920" y="5972040"/>
            <a:ext cx="1766880" cy="820800"/>
          </a:xfrm>
          <a:custGeom>
            <a:avLst/>
            <a:gdLst/>
            <a:ahLst/>
            <a:rect l="l" t="t" r="r" b="b"/>
            <a:pathLst>
              <a:path w="1113" h="517">
                <a:moveTo>
                  <a:pt x="0" y="0"/>
                </a:moveTo>
                <a:lnTo>
                  <a:pt x="565" y="517"/>
                </a:lnTo>
                <a:lnTo>
                  <a:pt x="1113" y="0"/>
                </a:lnTo>
                <a:lnTo>
                  <a:pt x="562" y="403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214880" y="4567320"/>
            <a:ext cx="1201680" cy="1393920"/>
          </a:xfrm>
          <a:custGeom>
            <a:avLst/>
            <a:gdLst/>
            <a:ahLst/>
            <a:rect l="l" t="t" r="r" b="b"/>
            <a:pathLst>
              <a:path w="757" h="878">
                <a:moveTo>
                  <a:pt x="0" y="878"/>
                </a:moveTo>
                <a:lnTo>
                  <a:pt x="757" y="763"/>
                </a:lnTo>
                <a:lnTo>
                  <a:pt x="690" y="0"/>
                </a:lnTo>
                <a:lnTo>
                  <a:pt x="667" y="694"/>
                </a:lnTo>
                <a:lnTo>
                  <a:pt x="0" y="87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96960" y="2857680"/>
            <a:ext cx="1022400" cy="1728720"/>
          </a:xfrm>
          <a:custGeom>
            <a:avLst/>
            <a:gdLst/>
            <a:ahLst/>
            <a:rect l="l" t="t" r="r" b="b"/>
            <a:pathLst>
              <a:path w="644" h="1089">
                <a:moveTo>
                  <a:pt x="396" y="1089"/>
                </a:moveTo>
                <a:lnTo>
                  <a:pt x="0" y="434"/>
                </a:lnTo>
                <a:lnTo>
                  <a:pt x="644" y="0"/>
                </a:lnTo>
                <a:lnTo>
                  <a:pt x="111" y="459"/>
                </a:lnTo>
                <a:lnTo>
                  <a:pt x="396" y="1089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rot="3066000">
            <a:off x="676440" y="5121720"/>
            <a:ext cx="1766880" cy="820800"/>
          </a:xfrm>
          <a:custGeom>
            <a:avLst/>
            <a:gdLst/>
            <a:ahLst/>
            <a:rect l="l" t="t" r="r" b="b"/>
            <a:pathLst>
              <a:path w="1113" h="517">
                <a:moveTo>
                  <a:pt x="0" y="0"/>
                </a:moveTo>
                <a:lnTo>
                  <a:pt x="565" y="517"/>
                </a:lnTo>
                <a:lnTo>
                  <a:pt x="1113" y="0"/>
                </a:lnTo>
                <a:lnTo>
                  <a:pt x="562" y="403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905360" y="2833560"/>
            <a:ext cx="965160" cy="1703520"/>
          </a:xfrm>
          <a:custGeom>
            <a:avLst/>
            <a:gdLst/>
            <a:ahLst/>
            <a:rect l="l" t="t" r="r" b="b"/>
            <a:pathLst>
              <a:path w="608" h="1073">
                <a:moveTo>
                  <a:pt x="254" y="1073"/>
                </a:moveTo>
                <a:lnTo>
                  <a:pt x="608" y="393"/>
                </a:lnTo>
                <a:lnTo>
                  <a:pt x="0" y="0"/>
                </a:lnTo>
                <a:lnTo>
                  <a:pt x="498" y="425"/>
                </a:lnTo>
                <a:lnTo>
                  <a:pt x="254" y="1073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719360" y="1722600"/>
            <a:ext cx="1590480" cy="1135080"/>
          </a:xfrm>
          <a:custGeom>
            <a:avLst/>
            <a:gdLst/>
            <a:ahLst/>
            <a:rect l="l" t="t" r="r" b="b"/>
            <a:pathLst>
              <a:path w="1002" h="715">
                <a:moveTo>
                  <a:pt x="0" y="715"/>
                </a:moveTo>
                <a:lnTo>
                  <a:pt x="262" y="0"/>
                </a:lnTo>
                <a:lnTo>
                  <a:pt x="1002" y="223"/>
                </a:lnTo>
                <a:lnTo>
                  <a:pt x="313" y="102"/>
                </a:lnTo>
                <a:lnTo>
                  <a:pt x="0" y="715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24240" y="1735200"/>
            <a:ext cx="1571760" cy="1098360"/>
          </a:xfrm>
          <a:custGeom>
            <a:avLst/>
            <a:gdLst/>
            <a:ahLst/>
            <a:rect l="l" t="t" r="r" b="b"/>
            <a:pathLst>
              <a:path w="990" h="692">
                <a:moveTo>
                  <a:pt x="990" y="692"/>
                </a:moveTo>
                <a:lnTo>
                  <a:pt x="726" y="0"/>
                </a:lnTo>
                <a:lnTo>
                  <a:pt x="0" y="215"/>
                </a:lnTo>
                <a:lnTo>
                  <a:pt x="675" y="102"/>
                </a:lnTo>
                <a:lnTo>
                  <a:pt x="990" y="692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4829040" y="2752560"/>
            <a:ext cx="123840" cy="1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319560" y="197172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5157360" y="4514760"/>
            <a:ext cx="228600" cy="5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1214280" y="4524120"/>
            <a:ext cx="309600" cy="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04880" y="2781360"/>
            <a:ext cx="238320" cy="1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425680" y="5967360"/>
            <a:ext cx="1790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4216320" y="4557240"/>
            <a:ext cx="1092240" cy="1422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4901760" y="2843280"/>
            <a:ext cx="406440" cy="1714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3301560" y="2080800"/>
            <a:ext cx="160020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1701360" y="2081160"/>
            <a:ext cx="1600200" cy="774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1307880" y="2855880"/>
            <a:ext cx="393480" cy="1714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08240" y="4570560"/>
            <a:ext cx="1117440" cy="1396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891040" y="1512720"/>
            <a:ext cx="3252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tep 1. Set the compass to the circle radius and draw the circ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864400" y="3465360"/>
            <a:ext cx="327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tep 2. Set the compass to the length of the side and step it off around the circ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848200" y="5708520"/>
            <a:ext cx="329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tep 3. Joins up the marks to form the heptag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04920" y="1062000"/>
            <a:ext cx="541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Now for a heptagon (7 Si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3500"/>
                            </p:stCondLst>
                            <p:childTnLst>
                              <p:par>
                                <p:cTn id="329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6000"/>
                            </p:stCondLst>
                            <p:childTnLst>
                              <p:par>
                                <p:cTn id="333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500"/>
                            </p:stCondLst>
                            <p:childTnLst>
                              <p:par>
                                <p:cTn id="33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0" nodeType="afterEffect" fill="hold" presetClass="entr" presetID="1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6000"/>
                            </p:stCondLst>
                            <p:childTnLst>
                              <p:par>
                                <p:cTn id="343" nodeType="afterEffect" fill="hold" presetClass="entr" presetID="1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0000"/>
                            </p:stCondLst>
                            <p:childTnLst>
                              <p:par>
                                <p:cTn id="346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1500"/>
                            </p:stCondLst>
                            <p:childTnLst>
                              <p:par>
                                <p:cTn id="350" nodeType="afterEffect" fill="hold" presetClass="entr" presetID="1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5500"/>
                            </p:stCondLst>
                            <p:childTnLst>
                              <p:par>
                                <p:cTn id="353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9000"/>
                            </p:stCondLst>
                            <p:childTnLst>
                              <p:par>
                                <p:cTn id="357" nodeType="afterEffect" fill="hold" presetClass="entr" presetID="1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33000"/>
                            </p:stCondLst>
                            <p:childTnLst>
                              <p:par>
                                <p:cTn id="360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36500"/>
                            </p:stCondLst>
                            <p:childTnLst>
                              <p:par>
                                <p:cTn id="364" nodeType="afterEffect" fill="hold" presetClass="entr" presetID="1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40500"/>
                            </p:stCondLst>
                            <p:childTnLst>
                              <p:par>
                                <p:cTn id="367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44000"/>
                            </p:stCondLst>
                            <p:childTnLst>
                              <p:par>
                                <p:cTn id="371" nodeType="afterEffect" fill="hold" presetClass="entr" presetID="1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480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1500"/>
                            </p:stCondLst>
                            <p:childTnLst>
                              <p:par>
                                <p:cTn id="378" nodeType="afterEffect" fill="hold" presetClass="entr" presetID="1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5500"/>
                            </p:stCondLst>
                            <p:childTnLst>
                              <p:par>
                                <p:cTn id="3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6000"/>
                            </p:stCondLst>
                            <p:childTnLst>
                              <p:par>
                                <p:cTn id="38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9500"/>
                            </p:stCondLst>
                            <p:childTnLst>
                              <p:par>
                                <p:cTn id="38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61000"/>
                            </p:stCondLst>
                            <p:childTnLst>
                              <p:par>
                                <p:cTn id="39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62500"/>
                            </p:stCondLst>
                            <p:childTnLst>
                              <p:par>
                                <p:cTn id="396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64000"/>
                            </p:stCondLst>
                            <p:childTnLst>
                              <p:par>
                                <p:cTn id="400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65500"/>
                            </p:stCondLst>
                            <p:childTnLst>
                              <p:par>
                                <p:cTn id="40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67000"/>
                            </p:stCondLst>
                            <p:childTnLst>
                              <p:par>
                                <p:cTn id="40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68500"/>
                            </p:stCondLst>
                            <p:childTnLst>
                              <p:par>
                                <p:cTn id="412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21:40:05Z</dcterms:created>
  <dc:creator>cheetham</dc:creator>
  <dc:description/>
  <dc:language>en-US</dc:language>
  <cp:lastModifiedBy>gcheetham</cp:lastModifiedBy>
  <dcterms:modified xsi:type="dcterms:W3CDTF">2007-09-12T23:49:15Z</dcterms:modified>
  <cp:revision>14</cp:revision>
  <dc:subject/>
  <dc:title>Polygon from a known side</dc:title>
</cp:coreProperties>
</file>